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82F72-BA3C-4445-B8F4-6AA964D84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7F9D1-38EE-433F-B0DF-68755766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25E3CC-9B78-4A94-A7C5-ED9758EFA9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3D6B56-4A56-4469-9574-B139E5B5CB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D97EB-D321-4F43-97E5-2D0A5C1DC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4D0038-A936-4E83-B4C6-ADD7AAF6D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8B9E9-4E28-4F3B-8C5C-1E950A66A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1159E-F95E-4C43-9FAA-38F7DF184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C9CBC-5536-45D0-8143-02AE7F1600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A319A6-AE35-48D2-8A01-D7593B6B83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C670C2-5BA6-4A42-AB0F-3F3C15676B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E17863-6422-4647-A68B-53DC3F22CE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2F967-79C8-4098-A5BD-FA5A3E54B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6BAD1-C473-407D-8C2E-493E40C82B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4A3AA4-F860-4B52-BA7A-9B1E27D222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6079A4-45E4-4806-8003-E47A5274C8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3F1B0-1B72-4B29-AA99-7216BEBEDB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8BE596-AB5F-46E9-BE08-F895EC5F66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A584D-7C6B-405D-BBEA-BC922DBD30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F1D45F-243C-4C3E-8313-714F0CA91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5C6E1C-8711-4E91-AE69-CD2DF4551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6C5662-A01D-4760-B8AC-1562A32F4B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F6E5BE-ED5C-426B-8201-98CBF3120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F6185-AADE-4E3B-A47A-A95AC2C7D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9AC018-3EEA-4C88-BAB4-D13B618FAA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F2E414-7C26-4EA1-BEF9-08FDE20D7B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ACB882-AE72-41D8-9A9C-6C08A97B98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D93D2F-C422-4554-A2DC-1A0F537FB7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1753DD-E9FE-470D-9097-4F366D1346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43F0A6-BEB7-4A11-BCAC-90ACF55B82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DB070B-26A3-4E18-B57F-10BC38DB00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6F1C62-CDCC-49D4-88FC-D40BFB812E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36BA99-4B89-498A-956B-59E829BF20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167EE4-7AB9-4AE2-B77A-F506DBBDE6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F0F731-259F-4DE7-A4B2-395C1E3E26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B32CA9-C64D-418C-9933-4DB55F8F3E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8E8BAF-56E0-4798-8213-AFA7E5358B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0B3A9E-B86C-4308-9BD8-8748D06E59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BFF8A9-9BDB-40FE-8A64-62A1EA54F2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AF94B3-2001-4183-8C4E-786F47CC23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05321D-F74B-47C1-A0CF-7443A92414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3DC441-1225-4ECA-A2CA-1E01BF0F61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4C0131-ADDD-4D20-A8ED-0A06B33ACE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E19FCE-B6F2-4BE1-9410-4D66AAD60A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89A512-EC34-47B2-BD19-BB1AE98FF1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54A8CC-F701-4F83-8616-4A55856919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BB55B0-821A-4F55-8E6E-C3579A7C59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78E2C6-2394-4507-ACCD-BD8854E527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4B506B-677E-42B4-8B5F-D45F5463FF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EE2426-DB56-47B3-85EF-54420C7386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1047B6-9F96-45D3-99C3-4E735923E4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60BD30-0DA5-4B05-B510-60CF10153B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D8E704-DC7C-4A26-9DCD-A227107044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E78E87-2947-48D8-9CA7-F55733126D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9F0810-067E-4834-AED7-8EF3FB6A7B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712062-29BF-4956-958D-FEBC59C2E6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4444C0-7C5A-439C-8E3D-A9B86DE013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CAC455-B0CD-4AD5-914F-82659B7FAA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35FF69-337E-47D2-BA53-7F0D98B8A4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E0D847-D0C7-406F-868D-5C8D19279D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76D529-98D5-4C51-B5DD-337A1C3F11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948331-2E30-473F-A6E9-AFEB31E067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6E1041-8141-488D-B8E2-FED5CE36DC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3D4467-9CA4-4361-8D31-E0F29D389D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D4F017-FD2B-4F35-97DE-2FA150595A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C4F0D3-29EC-49B6-87D4-4A2C7AD043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EE296B-DBA0-4A81-AAA1-D3102F67EF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30ED35-2E9A-47FC-BBF4-4505D2BE02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315C20-6465-48EF-B0F7-4213674FF9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7350F9-BA19-4EC2-90D8-656685E75A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C3DBB87-1425-4355-8C8C-2C5026B831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0FC320D-56D7-4377-91D7-6A1171D0DE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65BBB6-0756-4415-BAB3-34DBDB1B97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DF35-B699-4962-A2FF-E7D2BA2E2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64C041-790C-41C8-9258-0F37C1C833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D4D0F7-E22F-4365-8684-2AC73036BA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F173D9-66D7-44D9-BFFB-415E5542F5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F10399-50E8-476E-BA36-FF30921ABF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FE840E-E41C-4DC3-9111-C9216B7A95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B7337-32CD-45BD-9B25-75A8E2264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FB9771-CDED-431F-AB17-483FAD3F03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980B61-F21E-4127-B59D-EF2305EFE7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724B2A-07F1-4219-9459-2F90E3126A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DDFA85-2CE8-48CB-8F55-9813350AEB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E21287-118F-418D-B6AE-498C91733E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E3FE59D-5AC3-4490-AB2D-6694B21B5A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DFEDF1-D04B-47B6-8D23-70AC43B4A0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BC4B7-BF68-49CB-8C5F-C92DB9183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7D2C4-5F03-4061-ADE0-FE9ACC37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1B95-BC51-4592-84ED-4EA49607C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97AB67-E9CF-489F-9D30-8067B3F3F5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4F8BA-0541-4C3E-8BC6-FFADFB356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EFBA6-3832-4140-B44E-DFC76887B0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8056A-79D5-43C4-A634-75A89BEB2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4ADA6-C7E4-4466-A683-8375C9112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116DA6-7BF7-4C38-9CA4-F404FDA36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E00DA-4CF2-40D1-BC28-9B2244A80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C64E9-E270-4E49-BD8B-725D56FDE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8BEFE-9784-4D79-8519-A0A361DC5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9994-D2E7-43DC-AEF5-658A0F13C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CF5DC-E0AF-4C4B-B0F4-C7635CBFB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0ECD59-9558-47B7-9EA4-6E1B057C70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2D3880-CCF2-45D8-BD44-023EAF91F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E521DE-0521-4CE5-8A69-DF2BFC6910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15DB53-6758-497A-BD05-27EAAD50A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B530B6-26DA-4C73-8FD0-E94BCF9DC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DD8A7B-BCEE-4A2E-97A9-2698B04B9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C3D0E6-0AAF-4A83-9E1F-F0776CC4E4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C6B6D-8B19-40F9-B3BA-52A6087AC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C9F3C-D7DE-4077-86AF-00DECE4BB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9635-CEBF-4E8A-B399-B3771656C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090CF7-B92F-42AE-AC07-0F387515D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06AA2-F5A6-4971-BF6F-AF89FE13A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1EC35-A9AA-4DDA-91CE-5402AE404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039D4E-AB1F-497D-818D-1AE546FF22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076365-385E-44A1-9375-43EAD1CC48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2AED9F-122B-447E-89AF-6BA46F3EEE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1F0B34-3BD5-44D9-9DE7-CF7D90707E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812F6-FD85-437D-B4C6-5574741A7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78CC0-C9B1-45B2-8206-17E189818E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27FEA-11F4-4ABF-84E8-EE7F12421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982A-2DD3-4E73-8DD6-BA96CD3CE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02CF9-69FD-4120-8032-A34F4BA93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B3C603-3E1F-48DB-BFC3-400CFBB34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3BC5A-2DBE-4FE9-ACBD-DDAEFE34E6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5B894-58B9-45D1-854B-C44D524C7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1A5ED3-80C5-4B5C-A9D4-9AB794492E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45E6D2-A8E6-44FB-AF15-08EF847477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4D9C77-E788-49BD-A703-4CE21B40EC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00FAB7-C490-4BCF-942A-B79B557348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FB722A-41C1-41F2-9042-3DBFA985EA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097883-270A-46FE-AF35-079BC35C71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77593-F5E9-49D0-A49B-B382E6ECF3A2}"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1499F-CA9F-457F-9347-CCFC0330AFA8}"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2"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A34CA-D8C2-4BA4-9D7A-C788C30333DB}"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8F2B9-5A83-4DEE-8C6D-B3FDBE88E19D}"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37"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CF1ED-D764-4307-AEDE-BCBD17508675}"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8596F-F216-4593-9898-382CCA95C8CF}"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97F61-B86C-4545-B6E4-905109D33172}"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78E94-9705-444A-A353-1E595FF96452}"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EB703-94DC-4846-8F8E-39724B9CF156}"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55FCE-FBB6-4878-8C64-9445362F6F6D}"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39637-E3FF-48FF-A964-72188FDB6FE1}"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8E949-0EF5-418D-BF55-551FF47A9D30}"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2CD1D-C541-4902-A445-B792814ADBAB}" type="datetime">
              <a:rPr b="1" lang="en-US" sz="1400" spc="-1" strike="noStrike">
                <a:solidFill>
                  <a:srgbClr val="7f7f7f"/>
                </a:solidFill>
                <a:latin typeface="Times New Roman"/>
              </a:rPr>
              <a:t>07/30/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67A66-2287-4A5E-B8FF-36A7B895D8D8}"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7FDBC-5B5C-4C05-8BB4-C2D01DB31BE7}"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58BB9-C743-4000-AB10-5B3842BC60B7}" type="datetime">
              <a:rPr b="1" lang="en-US" sz="1400" spc="-1" strike="noStrike">
                <a:solidFill>
                  <a:srgbClr val="7f7f7f"/>
                </a:solidFill>
                <a:latin typeface="Times New Roman"/>
              </a:rPr>
              <a:t>07/30/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F3CF1-816D-4F61-8800-9E474041F8D5}" type="datetime">
              <a:rPr b="1" lang="en-US" sz="1400" spc="-1" strike="noStrike">
                <a:solidFill>
                  <a:srgbClr val="7f7f7f"/>
                </a:solidFill>
                <a:latin typeface="Times New Roman"/>
              </a:rPr>
              <a:t>07/3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41EF1-3EA6-4304-BA64-BDB9AFD2C66B}"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6C67E-328E-4B89-868E-36D94DD7BCE8}"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3966F-31C7-470D-805A-7646C92DE4EA}"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BA9BE-2E69-4D19-9E08-09807039015B}"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8E90B-8FEB-4A92-BCAE-1BA401E877FF}"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44A1B-3A22-45FE-BBD4-D88253F3FD5A}"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34909-FEC7-40E1-AB6E-4D0BF22CF719}" type="datetime">
              <a:rPr b="1" lang="en-US" sz="1100" spc="-1" strike="noStrike">
                <a:solidFill>
                  <a:srgbClr val="a6a6a6"/>
                </a:solidFill>
                <a:latin typeface="Times New Roman"/>
              </a:rPr>
              <a:t>07/30/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6A0ED-217E-4637-954D-2C29E05CF05D}"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So What Are We Doing About It?</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Woodland Intermediate School Response to Concerns</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Second Step</a:t>
            </a:r>
            <a:endParaRPr b="0" lang="en-US" sz="3400" spc="-1" strike="noStrike">
              <a:solidFill>
                <a:srgbClr val="174576"/>
              </a:solidFill>
              <a:latin typeface="Corbel"/>
            </a:endParaRPr>
          </a:p>
        </p:txBody>
      </p:sp>
      <p:sp>
        <p:nvSpPr>
          <p:cNvPr id="62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Second Step curriculum will continue to be taught to all WIS students by homeroom teachers.</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Second Step is a curriculum that is designed to provide students with strategies associated with making positive choices.</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174576"/>
                </a:solidFill>
                <a:latin typeface="Corbel"/>
              </a:rPr>
              <a:t>Playground</a:t>
            </a:r>
            <a:endParaRPr b="0" lang="en-US" sz="3800" spc="-1" strike="noStrike">
              <a:solidFill>
                <a:srgbClr val="174576"/>
              </a:solidFill>
              <a:latin typeface="Corbel"/>
            </a:endParaRPr>
          </a:p>
        </p:txBody>
      </p:sp>
      <p:sp>
        <p:nvSpPr>
          <p:cNvPr id="627" name=""/>
          <p:cNvSpPr txBox="1"/>
          <p:nvPr/>
        </p:nvSpPr>
        <p:spPr>
          <a:xfrm>
            <a:off x="779040" y="1949400"/>
            <a:ext cx="7583400" cy="4006800"/>
          </a:xfrm>
          <a:prstGeom prst="rect">
            <a:avLst/>
          </a:prstGeom>
          <a:noFill/>
          <a:ln w="0">
            <a:noFill/>
          </a:ln>
        </p:spPr>
        <p:txBody>
          <a:bodyPr anchor="t">
            <a:normAutofit fontScale="97000"/>
          </a:bodyPr>
          <a:p>
            <a:pPr marL="332640" indent="-33264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74576"/>
                </a:solidFill>
                <a:latin typeface="Corbel"/>
              </a:rPr>
              <a:t>Playground evaluators from EDS 112 were asked to visit WIS and evaluate our playground. The evaluation provided WIS with areas of focus. As a result the following actions were taken.</a:t>
            </a:r>
            <a:endParaRPr b="0" lang="en-US" sz="17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Bark chips replaced the pea gravel under the playground equipment.</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n out-of-bounds perimeter was added to keep students out of specific areas that are difficult to supervise.</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ll playground activities and games were repainted (four square x 4, wall ball x 3, tether ball x 3 hop scotch x 2 and a full length basketball court).</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dditional playground equipment was purchased.</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 playground games unit is being taught as part of the physical education curriculum. </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dditional morning supervision was added.</a:t>
            </a:r>
            <a:endParaRPr b="0" lang="en-US" sz="1600" spc="-1" strike="noStrike">
              <a:solidFill>
                <a:srgbClr val="174576"/>
              </a:solidFill>
              <a:latin typeface="Corbel"/>
            </a:endParaRPr>
          </a:p>
          <a:p>
            <a:pPr marL="332640" indent="-33264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74576"/>
                </a:solidFill>
                <a:latin typeface="Corbel"/>
              </a:rPr>
              <a:t>Playground supervisors attended playground safety training in the spring of 2010. The training was provided by ESD 112</a:t>
            </a:r>
            <a:endParaRPr b="0" lang="en-US" sz="17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dditional training has been scheduled through ESD 112 for the fall of 2010. </a:t>
            </a:r>
            <a:endParaRPr b="0" lang="en-US" sz="16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79040" y="294840"/>
            <a:ext cx="8024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Student Incentive Programs: </a:t>
            </a:r>
            <a:r>
              <a:rPr b="1" lang="en-US" sz="3400" spc="-1" strike="noStrike">
                <a:solidFill>
                  <a:srgbClr val="174576"/>
                </a:solidFill>
                <a:latin typeface="Corbel"/>
              </a:rPr>
              <a:t>Eagle Award</a:t>
            </a:r>
            <a:endParaRPr b="0" lang="en-US" sz="3400" spc="-1" strike="noStrike">
              <a:solidFill>
                <a:srgbClr val="174576"/>
              </a:solidFill>
              <a:latin typeface="Corbel"/>
            </a:endParaRPr>
          </a:p>
        </p:txBody>
      </p:sp>
      <p:sp>
        <p:nvSpPr>
          <p:cNvPr id="62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uring the spring of 2010 WIS partnered with Burgerville to develop and implement a monthly incentive program entitled The Burgerville/Eagle Award.</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month one of the five aspects associated with being an EAGLE is emphasized throughout the school. Teachers nominate students who the teachers feel did an exemplary job of demonstrating the highlighted aspect of being an EAGLE throughout the month. The nominated students have lunch with the principal. Lunch is provided by Burgerville.</a:t>
            </a:r>
            <a:endParaRPr b="0" lang="en-US" sz="20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Student Incentive Programs: </a:t>
            </a:r>
            <a:r>
              <a:rPr b="1" lang="en-US" sz="3400" spc="-1" strike="noStrike">
                <a:solidFill>
                  <a:srgbClr val="174576"/>
                </a:solidFill>
                <a:latin typeface="Corbel"/>
              </a:rPr>
              <a:t>Achievers</a:t>
            </a:r>
            <a:endParaRPr b="0" lang="en-US" sz="3400" spc="-1" strike="noStrike">
              <a:solidFill>
                <a:srgbClr val="174576"/>
              </a:solidFill>
              <a:latin typeface="Corbel"/>
            </a:endParaRPr>
          </a:p>
        </p:txBody>
      </p:sp>
      <p:sp>
        <p:nvSpPr>
          <p:cNvPr id="63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Quarterly Achievers will continue to be recognized. At the conclusion of each quarter students are publicly recognized and rewarded for meeting specific criteria in four areas.</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ttendance</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Behavior management</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cademic Honors</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ccelerated Reader</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Student Incentive Programs: </a:t>
            </a:r>
            <a:r>
              <a:rPr b="1" lang="en-US" sz="3400" spc="-1" strike="noStrike">
                <a:solidFill>
                  <a:srgbClr val="174576"/>
                </a:solidFill>
                <a:latin typeface="Corbel"/>
              </a:rPr>
              <a:t>Student of the Month</a:t>
            </a:r>
            <a:endParaRPr b="0" lang="en-US" sz="3400" spc="-1" strike="noStrike">
              <a:solidFill>
                <a:srgbClr val="174576"/>
              </a:solidFill>
              <a:latin typeface="Corbel"/>
            </a:endParaRPr>
          </a:p>
        </p:txBody>
      </p:sp>
      <p:sp>
        <p:nvSpPr>
          <p:cNvPr id="63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tudents of the Month will continue to be recognized.</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month different life skills are emphasized throughout the school. Teachers nominate students as Students of the Month who the teacher feels did an exemplary job of demonstrating the highlighted life skill.</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Student Discipline</a:t>
            </a:r>
            <a:endParaRPr b="0" lang="en-US" sz="3800" spc="-1" strike="noStrike">
              <a:solidFill>
                <a:srgbClr val="174576"/>
              </a:solidFill>
              <a:latin typeface="Corbel"/>
            </a:endParaRPr>
          </a:p>
        </p:txBody>
      </p:sp>
      <p:sp>
        <p:nvSpPr>
          <p:cNvPr id="63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lignment of Discipline Matrix with Board Policy</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Initial steps of discipline are more assertive, particularly as children get older</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reas of Focus</a:t>
            </a:r>
            <a:endParaRPr b="0" lang="en-US" sz="3800" spc="-1" strike="noStrike">
              <a:solidFill>
                <a:srgbClr val="174576"/>
              </a:solidFill>
              <a:latin typeface="Corbel"/>
            </a:endParaRPr>
          </a:p>
        </p:txBody>
      </p:sp>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cademic Initiative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Behavioral Management and Social/Emotional Suppor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layground</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tudent Incentive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tudent Discipline</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cademic Initiatives: </a:t>
            </a:r>
            <a:r>
              <a:rPr b="1" lang="en-US" sz="3800" spc="-1" strike="noStrike">
                <a:solidFill>
                  <a:srgbClr val="174576"/>
                </a:solidFill>
                <a:latin typeface="Corbel"/>
              </a:rPr>
              <a:t>Title 1 Plan</a:t>
            </a:r>
            <a:endParaRPr b="0" lang="en-US" sz="3800" spc="-1" strike="noStrike">
              <a:solidFill>
                <a:srgbClr val="174576"/>
              </a:solidFill>
              <a:latin typeface="Corbel"/>
            </a:endParaRPr>
          </a:p>
        </p:txBody>
      </p:sp>
      <p:sp>
        <p:nvSpPr>
          <p:cNvPr id="611" name=""/>
          <p:cNvSpPr txBox="1"/>
          <p:nvPr/>
        </p:nvSpPr>
        <p:spPr>
          <a:xfrm>
            <a:off x="779040" y="1949400"/>
            <a:ext cx="7583400" cy="4006800"/>
          </a:xfrm>
          <a:prstGeom prst="rect">
            <a:avLst/>
          </a:prstGeom>
          <a:noFill/>
          <a:ln w="0">
            <a:noFill/>
          </a:ln>
        </p:spPr>
        <p:txBody>
          <a:bodyPr anchor="t">
            <a:normAutofit fontScale="96000"/>
          </a:bodyPr>
          <a:p>
            <a:pPr marL="329040" indent="-32904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Development and Implementation of the WIS Title 1 Plan</a:t>
            </a:r>
            <a:endParaRPr b="0" lang="en-US" sz="20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Designed to identify and address areas of the greatest need as identified through data collection and study.</a:t>
            </a:r>
            <a:endParaRPr b="0" lang="en-US" sz="16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Developed consistent academic schedules within each grade level team.</a:t>
            </a:r>
            <a:endParaRPr b="0" lang="en-US" sz="1600" spc="-1" strike="noStrike">
              <a:solidFill>
                <a:srgbClr val="174576"/>
              </a:solidFill>
              <a:latin typeface="Corbel"/>
            </a:endParaRPr>
          </a:p>
          <a:p>
            <a:pPr lvl="2" marL="993600" indent="-33516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A scheduling committee reviewed past schedules, assessed needs and developed specialist and teaching schedules for the 2010/2011 school year.</a:t>
            </a:r>
            <a:endParaRPr b="0" lang="en-US" sz="14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Developed an academic intervention block (45 minutes) at each grade level.</a:t>
            </a:r>
            <a:endParaRPr b="0" lang="en-US" sz="1600" spc="-1" strike="noStrike">
              <a:solidFill>
                <a:srgbClr val="174576"/>
              </a:solidFill>
              <a:latin typeface="Corbel"/>
            </a:endParaRPr>
          </a:p>
          <a:p>
            <a:pPr lvl="2" marL="993600" indent="-33516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Created consistency of services provided and maximized opportunities for academic interventions.</a:t>
            </a:r>
            <a:endParaRPr b="0" lang="en-US" sz="1400" spc="-1" strike="noStrike">
              <a:solidFill>
                <a:srgbClr val="174576"/>
              </a:solidFill>
              <a:latin typeface="Corbel"/>
            </a:endParaRPr>
          </a:p>
          <a:p>
            <a:pPr lvl="2" marL="993600" indent="-33516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The intervention block enabled students who receive academic interventions to receive the interventions in addition to general education core (reading, writing and math) instruction. </a:t>
            </a:r>
            <a:endParaRPr b="0" lang="en-US" sz="14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Continued the use of a block style schedule in an effort to maximized instructional time throughout the day.</a:t>
            </a:r>
            <a:endParaRPr b="0" lang="en-US" sz="16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cademic Initiatives:</a:t>
            </a:r>
            <a:r>
              <a:rPr b="1" lang="en-US" sz="3800" spc="-1" strike="noStrike">
                <a:solidFill>
                  <a:srgbClr val="174576"/>
                </a:solidFill>
                <a:latin typeface="Corbel"/>
              </a:rPr>
              <a:t> Title I Math</a:t>
            </a:r>
            <a:r>
              <a:rPr b="0" lang="en-US" sz="3800" spc="-1" strike="noStrike">
                <a:solidFill>
                  <a:srgbClr val="174576"/>
                </a:solidFill>
                <a:latin typeface="Corbel"/>
              </a:rPr>
              <a:t> </a:t>
            </a:r>
            <a:endParaRPr b="0" lang="en-US" sz="3800" spc="-1" strike="noStrike">
              <a:solidFill>
                <a:srgbClr val="174576"/>
              </a:solidFill>
              <a:latin typeface="Corbel"/>
            </a:endParaRPr>
          </a:p>
        </p:txBody>
      </p:sp>
      <p:sp>
        <p:nvSpPr>
          <p:cNvPr id="61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4576"/>
                </a:solidFill>
                <a:latin typeface="Corbel"/>
              </a:rPr>
              <a:t>Expanded upon our Title 1 math program that was implemented during the 2009/2010 school year. </a:t>
            </a:r>
            <a:endParaRPr b="0" lang="en-US" sz="24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4576"/>
                </a:solidFill>
                <a:latin typeface="Corbel"/>
              </a:rPr>
              <a:t>Developed daily opportunities within our specialists (art, PE and tech. teachers) schedules to work with students who are served in the Title 1 math program. </a:t>
            </a:r>
            <a:endParaRPr b="0" lang="en-US" sz="18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a:t>
            </a:r>
            <a:r>
              <a:rPr b="1" lang="en-US" sz="3400" spc="-1" strike="noStrike">
                <a:solidFill>
                  <a:srgbClr val="174576"/>
                </a:solidFill>
                <a:latin typeface="Corbel"/>
              </a:rPr>
              <a:t> Think Tank</a:t>
            </a:r>
            <a:endParaRPr b="0" lang="en-US" sz="3400" spc="-1" strike="noStrike">
              <a:solidFill>
                <a:srgbClr val="174576"/>
              </a:solidFill>
              <a:latin typeface="Corbel"/>
            </a:endParaRPr>
          </a:p>
        </p:txBody>
      </p:sp>
      <p:sp>
        <p:nvSpPr>
          <p:cNvPr id="61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veloped and implemented an intervention program (The Think Tank) with a focus on behavior management. </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The Think Tank provides an environment, staff and opportunity for students to take ownership of inappropriate behaviors, brainstorm appropriate behaviors for future implementation, outline a plan for making positive choices in the future, identify staff members in the building who are available to assist the student in a time of need and call home to communicate with parents/guardians.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Fresh Start</a:t>
            </a:r>
            <a:endParaRPr b="0" lang="en-US" sz="3400" spc="-1" strike="noStrike">
              <a:solidFill>
                <a:srgbClr val="174576"/>
              </a:solidFill>
              <a:latin typeface="Corbel"/>
            </a:endParaRPr>
          </a:p>
        </p:txBody>
      </p:sp>
      <p:sp>
        <p:nvSpPr>
          <p:cNvPr id="617" name=""/>
          <p:cNvSpPr txBox="1"/>
          <p:nvPr/>
        </p:nvSpPr>
        <p:spPr>
          <a:xfrm>
            <a:off x="779040" y="1949400"/>
            <a:ext cx="7583400" cy="4006800"/>
          </a:xfrm>
          <a:prstGeom prst="rect">
            <a:avLst/>
          </a:prstGeom>
          <a:noFill/>
          <a:ln w="0">
            <a:noFill/>
          </a:ln>
        </p:spPr>
        <p:txBody>
          <a:bodyPr anchor="t">
            <a:normAutofit fontScale="98000"/>
          </a:bodyPr>
          <a:p>
            <a:pPr marL="335880" indent="-3358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veloped and implemented a proactive intervention program that will provide students with social and emotional support.  </a:t>
            </a:r>
            <a:endParaRPr b="0" lang="en-US" sz="2200" spc="-1" strike="noStrike">
              <a:solidFill>
                <a:srgbClr val="174576"/>
              </a:solidFill>
              <a:latin typeface="Corbel"/>
            </a:endParaRPr>
          </a:p>
          <a:p>
            <a:pPr lvl="1" marL="671760" indent="-3297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Fresh Start is a program that will provide social and emotional support for approximately 20 of our most high needs/high risk students.</a:t>
            </a:r>
            <a:endParaRPr b="0" lang="en-US" sz="2000" spc="-1" strike="noStrike">
              <a:solidFill>
                <a:srgbClr val="174576"/>
              </a:solidFill>
              <a:latin typeface="Corbel"/>
            </a:endParaRPr>
          </a:p>
          <a:p>
            <a:pPr lvl="2" marL="1014120" indent="-34200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4576"/>
                </a:solidFill>
                <a:latin typeface="Corbel"/>
              </a:rPr>
              <a:t>Within the Fresh Start program students check in before school, during lunch and at the conclusion of the day. During check in opportunities students set goals, monitor progress according to ongoing evaluation by the classroom teacher, problem solve, identifies successes and areas that need continued focus. The Fresh Start program is facilitated in The Think Tank classroom. </a:t>
            </a:r>
            <a:endParaRPr b="0" lang="en-US" sz="1800" spc="-1" strike="noStrike">
              <a:solidFill>
                <a:srgbClr val="174576"/>
              </a:solidFill>
              <a:latin typeface="Corbel"/>
            </a:endParaRPr>
          </a:p>
          <a:p>
            <a:pPr marL="335880" indent="-3358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79400" y="294840"/>
            <a:ext cx="7910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4576"/>
                </a:solidFill>
                <a:latin typeface="Corbel"/>
              </a:rPr>
              <a:t>Behavior Management/Social and Emotional Support:  </a:t>
            </a:r>
            <a:r>
              <a:rPr b="1" lang="en-US" sz="3200" spc="-1" strike="noStrike">
                <a:solidFill>
                  <a:srgbClr val="174576"/>
                </a:solidFill>
                <a:latin typeface="Corbel"/>
              </a:rPr>
              <a:t>Common Expectations</a:t>
            </a:r>
            <a:endParaRPr b="0" lang="en-US" sz="3200" spc="-1" strike="noStrike">
              <a:solidFill>
                <a:srgbClr val="174576"/>
              </a:solidFill>
              <a:latin typeface="Corbel"/>
            </a:endParaRPr>
          </a:p>
        </p:txBody>
      </p:sp>
      <p:sp>
        <p:nvSpPr>
          <p:cNvPr id="619" name=""/>
          <p:cNvSpPr txBox="1"/>
          <p:nvPr/>
        </p:nvSpPr>
        <p:spPr>
          <a:xfrm>
            <a:off x="779040" y="1949400"/>
            <a:ext cx="7583400" cy="4006800"/>
          </a:xfrm>
          <a:prstGeom prst="rect">
            <a:avLst/>
          </a:prstGeom>
          <a:noFill/>
          <a:ln w="0">
            <a:noFill/>
          </a:ln>
        </p:spPr>
        <p:txBody>
          <a:bodyPr anchor="t">
            <a:normAutofit fontScale="99000"/>
          </a:bodyPr>
          <a:p>
            <a:pPr marL="339480" indent="-3394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Implemented school wide expectations associated with behavior management.</a:t>
            </a:r>
            <a:endParaRPr b="0" lang="en-US" sz="19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74576"/>
                </a:solidFill>
                <a:latin typeface="Corbel"/>
              </a:rPr>
              <a:t>The expectations are consistent from classroom to classroom and grade level to grade level. They are reinforced visually throughout the school and verbally multiple times each day.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EAGLE</a:t>
            </a:r>
            <a:r>
              <a:rPr b="0" lang="en-US" sz="1700" spc="-1" strike="noStrike">
                <a:solidFill>
                  <a:srgbClr val="174576"/>
                </a:solidFill>
                <a:latin typeface="Corbel"/>
              </a:rPr>
              <a:t> (</a:t>
            </a:r>
            <a:r>
              <a:rPr b="1" lang="en-US" sz="1700" spc="-1" strike="noStrike" u="sng">
                <a:solidFill>
                  <a:srgbClr val="174576"/>
                </a:solidFill>
                <a:uFillTx/>
                <a:latin typeface="Corbel"/>
              </a:rPr>
              <a:t>E</a:t>
            </a:r>
            <a:r>
              <a:rPr b="0" lang="en-US" sz="1700" spc="-1" strike="noStrike">
                <a:solidFill>
                  <a:srgbClr val="174576"/>
                </a:solidFill>
                <a:latin typeface="Corbel"/>
              </a:rPr>
              <a:t>ffort, </a:t>
            </a:r>
            <a:r>
              <a:rPr b="1" lang="en-US" sz="1700" spc="-1" strike="noStrike" u="sng">
                <a:solidFill>
                  <a:srgbClr val="174576"/>
                </a:solidFill>
                <a:uFillTx/>
                <a:latin typeface="Corbel"/>
              </a:rPr>
              <a:t>A</a:t>
            </a:r>
            <a:r>
              <a:rPr b="0" lang="en-US" sz="1700" spc="-1" strike="noStrike">
                <a:solidFill>
                  <a:srgbClr val="174576"/>
                </a:solidFill>
                <a:latin typeface="Corbel"/>
              </a:rPr>
              <a:t>ccept responsibility, </a:t>
            </a:r>
            <a:r>
              <a:rPr b="1" lang="en-US" sz="1700" spc="-1" strike="noStrike" u="sng">
                <a:solidFill>
                  <a:srgbClr val="174576"/>
                </a:solidFill>
                <a:uFillTx/>
                <a:latin typeface="Corbel"/>
              </a:rPr>
              <a:t>G</a:t>
            </a:r>
            <a:r>
              <a:rPr b="0" lang="en-US" sz="1700" spc="-1" strike="noStrike">
                <a:solidFill>
                  <a:srgbClr val="174576"/>
                </a:solidFill>
                <a:latin typeface="Corbel"/>
              </a:rPr>
              <a:t>ive respect, </a:t>
            </a:r>
            <a:r>
              <a:rPr b="1" lang="en-US" sz="1700" spc="-1" strike="noStrike" u="sng">
                <a:solidFill>
                  <a:srgbClr val="174576"/>
                </a:solidFill>
                <a:uFillTx/>
                <a:latin typeface="Corbel"/>
              </a:rPr>
              <a:t>L</a:t>
            </a:r>
            <a:r>
              <a:rPr b="0" lang="en-US" sz="1700" spc="-1" strike="noStrike">
                <a:solidFill>
                  <a:srgbClr val="174576"/>
                </a:solidFill>
                <a:latin typeface="Corbel"/>
              </a:rPr>
              <a:t>isten, and </a:t>
            </a:r>
            <a:r>
              <a:rPr b="1" lang="en-US" sz="1700" spc="-1" strike="noStrike" u="sng">
                <a:solidFill>
                  <a:srgbClr val="174576"/>
                </a:solidFill>
                <a:uFillTx/>
                <a:latin typeface="Corbel"/>
              </a:rPr>
              <a:t>E</a:t>
            </a:r>
            <a:r>
              <a:rPr b="0" lang="en-US" sz="1700" spc="-1" strike="noStrike">
                <a:solidFill>
                  <a:srgbClr val="174576"/>
                </a:solidFill>
                <a:latin typeface="Corbel"/>
              </a:rPr>
              <a:t>mpathy). The EAGLE acronym reflects our building wide guidelines for success.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SLANT</a:t>
            </a:r>
            <a:r>
              <a:rPr b="0" lang="en-US" sz="1700" spc="-1" strike="noStrike">
                <a:solidFill>
                  <a:srgbClr val="174576"/>
                </a:solidFill>
                <a:latin typeface="Corbel"/>
              </a:rPr>
              <a:t> (</a:t>
            </a:r>
            <a:r>
              <a:rPr b="1" lang="en-US" sz="1700" spc="-1" strike="noStrike" u="sng">
                <a:solidFill>
                  <a:srgbClr val="174576"/>
                </a:solidFill>
                <a:uFillTx/>
                <a:latin typeface="Corbel"/>
              </a:rPr>
              <a:t>S</a:t>
            </a:r>
            <a:r>
              <a:rPr b="0" lang="en-US" sz="1700" spc="-1" strike="noStrike">
                <a:solidFill>
                  <a:srgbClr val="174576"/>
                </a:solidFill>
                <a:latin typeface="Corbel"/>
              </a:rPr>
              <a:t>itting silently, </a:t>
            </a:r>
            <a:r>
              <a:rPr b="1" lang="en-US" sz="1700" spc="-1" strike="noStrike" u="sng">
                <a:solidFill>
                  <a:srgbClr val="174576"/>
                </a:solidFill>
                <a:uFillTx/>
                <a:latin typeface="Corbel"/>
              </a:rPr>
              <a:t>L</a:t>
            </a:r>
            <a:r>
              <a:rPr b="0" lang="en-US" sz="1700" spc="-1" strike="noStrike">
                <a:solidFill>
                  <a:srgbClr val="174576"/>
                </a:solidFill>
                <a:latin typeface="Corbel"/>
              </a:rPr>
              <a:t>istening, </a:t>
            </a:r>
            <a:r>
              <a:rPr b="1" lang="en-US" sz="1700" spc="-1" strike="noStrike" u="sng">
                <a:solidFill>
                  <a:srgbClr val="174576"/>
                </a:solidFill>
                <a:uFillTx/>
                <a:latin typeface="Corbel"/>
              </a:rPr>
              <a:t>A</a:t>
            </a:r>
            <a:r>
              <a:rPr b="0" lang="en-US" sz="1700" spc="-1" strike="noStrike">
                <a:solidFill>
                  <a:srgbClr val="174576"/>
                </a:solidFill>
                <a:latin typeface="Corbel"/>
              </a:rPr>
              <a:t>ttention, </a:t>
            </a:r>
            <a:r>
              <a:rPr b="1" lang="en-US" sz="1700" spc="-1" strike="noStrike" u="sng">
                <a:solidFill>
                  <a:srgbClr val="174576"/>
                </a:solidFill>
                <a:uFillTx/>
                <a:latin typeface="Corbel"/>
              </a:rPr>
              <a:t>N</a:t>
            </a:r>
            <a:r>
              <a:rPr b="0" lang="en-US" sz="1700" spc="-1" strike="noStrike">
                <a:solidFill>
                  <a:srgbClr val="174576"/>
                </a:solidFill>
                <a:latin typeface="Corbel"/>
              </a:rPr>
              <a:t>umber 0 voice, and </a:t>
            </a:r>
            <a:r>
              <a:rPr b="1" lang="en-US" sz="1700" spc="-1" strike="noStrike" u="sng">
                <a:solidFill>
                  <a:srgbClr val="174576"/>
                </a:solidFill>
                <a:uFillTx/>
                <a:latin typeface="Corbel"/>
              </a:rPr>
              <a:t>T</a:t>
            </a:r>
            <a:r>
              <a:rPr b="0" lang="en-US" sz="1700" spc="-1" strike="noStrike">
                <a:solidFill>
                  <a:srgbClr val="174576"/>
                </a:solidFill>
                <a:latin typeface="Corbel"/>
              </a:rPr>
              <a:t>otal eye contact). The SLANT acronym reflects expectations associated with times when listening skills need to be at their best.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LINES</a:t>
            </a:r>
            <a:r>
              <a:rPr b="0" lang="en-US" sz="1700" spc="-1" strike="noStrike">
                <a:solidFill>
                  <a:srgbClr val="174576"/>
                </a:solidFill>
                <a:latin typeface="Corbel"/>
              </a:rPr>
              <a:t> (</a:t>
            </a:r>
            <a:r>
              <a:rPr b="1" lang="en-US" sz="1700" spc="-1" strike="noStrike" u="sng">
                <a:solidFill>
                  <a:srgbClr val="174576"/>
                </a:solidFill>
                <a:uFillTx/>
                <a:latin typeface="Corbel"/>
              </a:rPr>
              <a:t>L</a:t>
            </a:r>
            <a:r>
              <a:rPr b="0" lang="en-US" sz="1700" spc="-1" strike="noStrike">
                <a:solidFill>
                  <a:srgbClr val="174576"/>
                </a:solidFill>
                <a:latin typeface="Corbel"/>
              </a:rPr>
              <a:t>ooking forward, </a:t>
            </a:r>
            <a:r>
              <a:rPr b="1" lang="en-US" sz="1700" spc="-1" strike="noStrike" u="sng">
                <a:solidFill>
                  <a:srgbClr val="174576"/>
                </a:solidFill>
                <a:uFillTx/>
                <a:latin typeface="Corbel"/>
              </a:rPr>
              <a:t>I</a:t>
            </a:r>
            <a:r>
              <a:rPr b="0" lang="en-US" sz="1700" spc="-1" strike="noStrike">
                <a:solidFill>
                  <a:srgbClr val="174576"/>
                </a:solidFill>
                <a:latin typeface="Corbel"/>
              </a:rPr>
              <a:t>n control of hands and feet, </a:t>
            </a:r>
            <a:r>
              <a:rPr b="1" lang="en-US" sz="1700" spc="-1" strike="noStrike" u="sng">
                <a:solidFill>
                  <a:srgbClr val="174576"/>
                </a:solidFill>
                <a:uFillTx/>
                <a:latin typeface="Corbel"/>
              </a:rPr>
              <a:t>N</a:t>
            </a:r>
            <a:r>
              <a:rPr b="0" lang="en-US" sz="1700" spc="-1" strike="noStrike">
                <a:solidFill>
                  <a:srgbClr val="174576"/>
                </a:solidFill>
                <a:latin typeface="Corbel"/>
              </a:rPr>
              <a:t>umber 0 voice, </a:t>
            </a:r>
            <a:r>
              <a:rPr b="1" lang="en-US" sz="1700" spc="-1" strike="noStrike" u="sng">
                <a:solidFill>
                  <a:srgbClr val="174576"/>
                </a:solidFill>
                <a:uFillTx/>
                <a:latin typeface="Corbel"/>
              </a:rPr>
              <a:t>E</a:t>
            </a:r>
            <a:r>
              <a:rPr b="0" lang="en-US" sz="1700" spc="-1" strike="noStrike">
                <a:solidFill>
                  <a:srgbClr val="174576"/>
                </a:solidFill>
                <a:latin typeface="Corbel"/>
              </a:rPr>
              <a:t>quipment being held, and </a:t>
            </a:r>
            <a:r>
              <a:rPr b="1" lang="en-US" sz="1700" spc="-1" strike="noStrike" u="sng">
                <a:solidFill>
                  <a:srgbClr val="174576"/>
                </a:solidFill>
                <a:uFillTx/>
                <a:latin typeface="Corbel"/>
              </a:rPr>
              <a:t>S</a:t>
            </a:r>
            <a:r>
              <a:rPr b="0" lang="en-US" sz="1700" spc="-1" strike="noStrike">
                <a:solidFill>
                  <a:srgbClr val="174576"/>
                </a:solidFill>
                <a:latin typeface="Corbel"/>
              </a:rPr>
              <a:t>tay in your spot). LINES is used during hallway travel and transition.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Voice Level</a:t>
            </a:r>
            <a:r>
              <a:rPr b="0" lang="en-US" sz="1700" spc="-1" strike="noStrike">
                <a:solidFill>
                  <a:srgbClr val="174576"/>
                </a:solidFill>
                <a:latin typeface="Corbel"/>
              </a:rPr>
              <a:t> 0- No talking  1- Whisper voice  2- Two person voice  3- Large group voice 4- Recess voice</a:t>
            </a:r>
            <a:endParaRPr b="0" lang="en-US" sz="1700" spc="-1" strike="noStrike">
              <a:solidFill>
                <a:srgbClr val="174576"/>
              </a:solidFill>
              <a:latin typeface="Corbel"/>
            </a:endParaRPr>
          </a:p>
          <a:p>
            <a:pPr marL="339480" indent="-3394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Classroom Meetings</a:t>
            </a:r>
            <a:endParaRPr b="0" lang="en-US" sz="3400" spc="-1" strike="noStrike">
              <a:solidFill>
                <a:srgbClr val="174576"/>
              </a:solidFill>
              <a:latin typeface="Corbel"/>
            </a:endParaRPr>
          </a:p>
        </p:txBody>
      </p:sp>
      <p:sp>
        <p:nvSpPr>
          <p:cNvPr id="621" name=""/>
          <p:cNvSpPr txBox="1"/>
          <p:nvPr/>
        </p:nvSpPr>
        <p:spPr>
          <a:xfrm>
            <a:off x="779040" y="1949400"/>
            <a:ext cx="7583400" cy="4006800"/>
          </a:xfrm>
          <a:prstGeom prst="rect">
            <a:avLst/>
          </a:prstGeom>
          <a:noFill/>
          <a:ln w="0">
            <a:noFill/>
          </a:ln>
        </p:spPr>
        <p:txBody>
          <a:bodyPr anchor="t">
            <a:normAutofit fontScale="97000"/>
          </a:bodyPr>
          <a:p>
            <a:pPr marL="332640" indent="-33264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veloped and implemented a classroom meeting program at the 4</a:t>
            </a:r>
            <a:r>
              <a:rPr b="0" lang="en-US" sz="2200" spc="-1" strike="noStrike" baseline="30000">
                <a:solidFill>
                  <a:srgbClr val="174576"/>
                </a:solidFill>
                <a:latin typeface="Corbel"/>
              </a:rPr>
              <a:t>th</a:t>
            </a:r>
            <a:r>
              <a:rPr b="0" lang="en-US" sz="2200" spc="-1" strike="noStrike">
                <a:solidFill>
                  <a:srgbClr val="174576"/>
                </a:solidFill>
                <a:latin typeface="Corbel"/>
              </a:rPr>
              <a:t> grade level. The classroom meetings are facilitated by the school psychologist and occur weekly. </a:t>
            </a:r>
            <a:endParaRPr b="0" lang="en-US" sz="2200" spc="-1" strike="noStrike">
              <a:solidFill>
                <a:srgbClr val="174576"/>
              </a:solidFill>
              <a:latin typeface="Corbel"/>
            </a:endParaRPr>
          </a:p>
          <a:p>
            <a:pPr lvl="1" marL="664920" indent="-3261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lassroom meetings focus on teaching students how to make good choices, be positive, use teamwork, and act in a way that depicts the qualities of an EAGLE.  </a:t>
            </a:r>
            <a:endParaRPr b="0" lang="en-US" sz="2000" spc="-1" strike="noStrike">
              <a:solidFill>
                <a:srgbClr val="174576"/>
              </a:solidFill>
              <a:latin typeface="Corbel"/>
            </a:endParaRPr>
          </a:p>
          <a:p>
            <a:pPr lvl="1" marL="664920" indent="-3261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Specific staff members were Right Response trained.</a:t>
            </a:r>
            <a:endParaRPr b="0" lang="en-US" sz="2000" spc="-1" strike="noStrike">
              <a:solidFill>
                <a:srgbClr val="174576"/>
              </a:solidFill>
              <a:latin typeface="Corbel"/>
            </a:endParaRPr>
          </a:p>
          <a:p>
            <a:pPr lvl="1" marL="664920" indent="-3261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Right Response training is designed to provide individuals with proactive and reactive strategies that can be used with students who are having higher level difficulties.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Why Try</a:t>
            </a:r>
            <a:endParaRPr b="0" lang="en-US" sz="3400" spc="-1" strike="noStrike">
              <a:solidFill>
                <a:srgbClr val="174576"/>
              </a:solidFill>
              <a:latin typeface="Corbel"/>
            </a:endParaRPr>
          </a:p>
        </p:txBody>
      </p:sp>
      <p:sp>
        <p:nvSpPr>
          <p:cNvPr id="62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y Try groups will continue to be facilitated by the building counselor.</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hy Try is a program that targets our most at risk students. Why Try provides students with skills needed to be successful in and out of school.</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20:12:29Z</dcterms:created>
  <dc:creator>Michael Green</dc:creator>
  <dc:description/>
  <dc:language>en-US</dc:language>
  <cp:lastModifiedBy>Michael Green</cp:lastModifiedBy>
  <dcterms:modified xsi:type="dcterms:W3CDTF">2010-10-20T20:59:24Z</dcterms:modified>
  <cp:revision>4</cp:revision>
  <dc:subject/>
  <dc:title>So What Are We Doing About It?</dc:title>
</cp:coreProperties>
</file>