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67800"/>
            <a:ext cx="4464000" cy="33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919-0FA5-4C3B-8695-CC3DFEB92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39E0-E049-4BF9-BE06-C0C22971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uld only use parts of 2 units of our 10 unit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e McDougall Littell Integrated se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3D7-A305-45E2-8DEA-03522D0C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3 is where we wanted “all” students to be by the end of the Unit.  Level 4 was written for students who wanted/needed to be challe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1 &amp; 2 align with either middle school PE’s or necessary skills for Level 3.  With these particular learning targets, Level 2 was at grade level but low complexity.  However, an understanding of correlation would be necessary for students to write and interpret equations of linear models at Level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AF1-2A5A-4018-AE0C-03E88466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Understanding – Embedded Multiple Representations and the connections between those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ing Memorization – Jo Boaler “Funnel &amp; Ladder”; Slope-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in Context – Unit Projects (Bicycle Race, Printer Costs, Painting Houses) menti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Technology – Math Open Reference; Geogebra; Graphing Calculators; Powerpoints; Green Gl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essons with Current References – Swine Flu, Blockbuster Movies (we will show you an example of this one l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5306-1FAA-4A81-BE88-2C551118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97000" y="668160"/>
            <a:ext cx="4464000" cy="3348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23972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use of icons and student reaction to ic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BC9-1EC3-4E6F-97C5-1B3A2DBE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1DC-90C0-493B-8BB7-E89F2019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3EB-FB3C-4F3C-86E5-3F19AE4A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3A5-18C6-45AC-95FF-EFDBAB4A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59B-CAE8-4C30-BA00-47E6E5A7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7CC-1898-4B8E-95A1-0E24616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EF2-54D9-4535-93ED-0D5FF276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72A-ABA2-409A-87DE-49F0270B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6F6-6CA1-4A38-A810-3D4C258E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797-3E63-418D-9BC2-BD187AC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286-ED09-4271-B1E9-D9FFFD6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EA9-5C04-448E-8CCE-973F563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AC7-F057-439F-8DD4-7D419733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U5_Lesson_Plan.pdf" TargetMode="External"/><Relationship Id="rId3" Type="http://schemas.openxmlformats.org/officeDocument/2006/relationships/image" Target="../media/image5.wmf"/><Relationship Id="rId4" Type="http://schemas.openxmlformats.org/officeDocument/2006/relationships/hyperlink" Target="http://schools.evergreenps.org/198910414181343180/lib/198910414181343180/_files/U5_Lesson_Plan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Hollywood_Budgets_A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schools.evergreenps.org/198910414181343180/lib/198910414181343180/_files/Hollywood_Budgets_A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chools.evergreenps.org/198910414181343180/lib/198910414181343180/_files/Integrated_1_Can_I_Do_This.pdf" TargetMode="External"/><Relationship Id="rId3" Type="http://schemas.openxmlformats.org/officeDocument/2006/relationships/hyperlink" Target="http://schools.evergreenps.org/198910414181343180/lib/198910414181343180/_files/Int1_U5_Assmt_2009_Form_B.pdf" TargetMode="External"/><Relationship Id="rId4" Type="http://schemas.openxmlformats.org/officeDocument/2006/relationships/hyperlink" Target="http://schools.evergreenps.org/198910414181343180/lib/198910414181343180/_files/U_5_Learning_Targets_v2.pdf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schools.evergreenps.org/198910414181343180/lib/198910414181343180/_files/U_5_Learning_Targets_v2.pdf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eachertube.com/members/viewVideo.php?video_id=154923&amp;title=Mutliple_Rep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thwest Math Consort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by Math C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aboration with classroom teac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ergreen 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llaboration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land 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ashougal School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EvergreenLogo2Color300dpiTransparentBG"/>
          <p:cNvPicPr/>
          <p:nvPr/>
        </p:nvPicPr>
        <p:blipFill>
          <a:blip r:embed="rId1"/>
          <a:stretch/>
        </p:blipFill>
        <p:spPr>
          <a:xfrm>
            <a:off x="609480" y="4495680"/>
            <a:ext cx="3429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ing the SW Math Consort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0520" y="12193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training on using                              curricular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in school or                                  virtual PL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ibute to th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-going, dynamic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T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, design and revi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rich mathematical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MPj04394460000[1]"/>
          <p:cNvPicPr/>
          <p:nvPr/>
        </p:nvPicPr>
        <p:blipFill>
          <a:blip r:embed="rId2"/>
          <a:stretch/>
        </p:blipFill>
        <p:spPr>
          <a:xfrm>
            <a:off x="6019920" y="1143000"/>
            <a:ext cx="234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like to see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052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 previewed is available for you to exa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bit.ly/evergreen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j0254490"/>
          <p:cNvPicPr/>
          <p:nvPr/>
        </p:nvPicPr>
        <p:blipFill>
          <a:blip r:embed="rId2"/>
          <a:stretch/>
        </p:blipFill>
        <p:spPr>
          <a:xfrm>
            <a:off x="5562720" y="1905120"/>
            <a:ext cx="21891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447920" y="1218960"/>
            <a:ext cx="6324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l.fabianek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da.phillip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ra.schneider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di.rhode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.morris@evergreenp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j0288904"/>
          <p:cNvPicPr/>
          <p:nvPr/>
        </p:nvPicPr>
        <p:blipFill>
          <a:blip r:embed="rId2"/>
          <a:stretch/>
        </p:blipFill>
        <p:spPr>
          <a:xfrm>
            <a:off x="762120" y="3962520"/>
            <a:ext cx="23619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632448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we take this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k started when we compared our textbook to the “new” Performance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alized that our textbook and resources did not align with the 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9"/>
          <p:cNvGrpSpPr/>
          <p:nvPr/>
        </p:nvGrpSpPr>
        <p:grpSpPr>
          <a:xfrm>
            <a:off x="1295280" y="3701880"/>
            <a:ext cx="4962600" cy="3156840"/>
            <a:chOff x="1295280" y="3701880"/>
            <a:chExt cx="4962600" cy="3156840"/>
          </a:xfrm>
        </p:grpSpPr>
        <p:pic>
          <p:nvPicPr>
            <p:cNvPr id="55" name="Picture 14" descr="MPj04285740000[1]"/>
            <p:cNvPicPr/>
            <p:nvPr/>
          </p:nvPicPr>
          <p:blipFill>
            <a:blip r:embed="rId2"/>
            <a:srcRect l="39821" t="42455" r="0" b="0"/>
            <a:stretch/>
          </p:blipFill>
          <p:spPr>
            <a:xfrm>
              <a:off x="1295280" y="3701880"/>
              <a:ext cx="496260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5"/>
            <p:cNvSpPr/>
            <p:nvPr/>
          </p:nvSpPr>
          <p:spPr>
            <a:xfrm>
              <a:off x="3962520" y="5911560"/>
              <a:ext cx="2286000" cy="947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 we w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1295280" y="423504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 we wanted to 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7"/>
            <p:cNvSpPr/>
            <p:nvPr/>
          </p:nvSpPr>
          <p:spPr>
            <a:xfrm>
              <a:off x="1752480" y="522576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8"/>
            <p:cNvSpPr/>
            <p:nvPr/>
          </p:nvSpPr>
          <p:spPr>
            <a:xfrm>
              <a:off x="5257800" y="4920840"/>
              <a:ext cx="228600" cy="838440"/>
            </a:xfrm>
            <a:prstGeom prst="upArrow">
              <a:avLst>
                <a:gd name="adj1" fmla="val 50000"/>
                <a:gd name="adj2" fmla="val 91693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342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ington Stat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rouped the standards into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523880"/>
          <a:ext cx="6553080" cy="45720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1    One 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2    Solving Inequalities and Absolute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3    Functions and Multiple Representa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4    Linear Func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5    Linear Models of Bivariate Da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6    Parallel Line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7    Solving in Two Variab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8    Sequences &amp; Exponentia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9    Non-Linear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028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10  Univariate Da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0572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808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rote “I Can” statements from th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2133720"/>
          <a:ext cx="6629400" cy="3535200"/>
        </p:xfrm>
        <a:graphic>
          <a:graphicData uri="http://schemas.openxmlformats.org/drawingml/2006/table">
            <a:tbl>
              <a:tblPr/>
              <a:tblGrid>
                <a:gridCol w="803520"/>
                <a:gridCol w="5825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decide whether or not a linear model is a good model for a set of da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w a line that is a good model for the dat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the equation of that li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the trend line or the equation to make predic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pret the slope and y-intercept of a linear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describe the correlation of a scatter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or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ong or we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identify the independent and dependent variables of a data s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can construct a scatter pl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6629400" cy="71604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Philosop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520" y="1371240"/>
            <a:ext cx="80773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veloped lessons design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onceptual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blems i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ynamic lessons with current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the state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MCj04063720000[1]"/>
          <p:cNvPicPr/>
          <p:nvPr/>
        </p:nvPicPr>
        <p:blipFill>
          <a:blip r:embed="rId2"/>
          <a:stretch/>
        </p:blipFill>
        <p:spPr>
          <a:xfrm>
            <a:off x="6629400" y="1066680"/>
            <a:ext cx="2052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62940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j01993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590920"/>
            <a:ext cx="2427120" cy="2819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8"/>
          <p:cNvSpPr/>
          <p:nvPr/>
        </p:nvSpPr>
        <p:spPr>
          <a:xfrm>
            <a:off x="609480" y="1523880"/>
            <a:ext cx="5791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Plan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 rot="20626200">
            <a:off x="5486400" y="3733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lywood Bu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85" name="WordArt 11"/>
          <p:cNvSpPr txBox="1"/>
          <p:nvPr/>
        </p:nvSpPr>
        <p:spPr>
          <a:xfrm rot="20761200">
            <a:off x="304920" y="1600200"/>
            <a:ext cx="37814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 Black"/>
              </a:rPr>
              <a:t>Sample Less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 Black"/>
              <a:ea typeface="Arial Black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276720" y="4572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63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80520" y="1219320"/>
            <a:ext cx="723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signed assessments by target a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 Black"/>
              </a:rPr>
              <a:t>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Benchmarks (Pretest)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arget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ncept Checks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n I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Ticket out the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Black"/>
              </a:rPr>
              <a:t>Sum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Gradebook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886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 rot="19258200">
            <a:off x="6172920" y="45716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Evergreen Public Schools 4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6705720" cy="170640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y be thinking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What does it look like in a classroom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EvergreenLogo2Color300dpiTransparentBG"/>
          <p:cNvPicPr/>
          <p:nvPr/>
        </p:nvPicPr>
        <p:blipFill>
          <a:blip r:embed="rId1"/>
          <a:stretch/>
        </p:blipFill>
        <p:spPr>
          <a:xfrm>
            <a:off x="7047000" y="5605560"/>
            <a:ext cx="2097000" cy="1252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80520" y="1828440"/>
            <a:ext cx="72392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take a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MCj04338650000[1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7432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 rot="1005000">
            <a:off x="4494960" y="4723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9:56:38Z</dcterms:created>
  <dc:creator>LocalSetup</dc:creator>
  <dc:description/>
  <dc:language>en-US</dc:language>
  <cp:lastModifiedBy>rileya</cp:lastModifiedBy>
  <dcterms:modified xsi:type="dcterms:W3CDTF">2010-09-07T22:53:33Z</dcterms:modified>
  <cp:revision>40</cp:revision>
  <dc:subject/>
  <dc:title>Integrated 1 Curriculum</dc:title>
</cp:coreProperties>
</file>