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7000" y="667800"/>
            <a:ext cx="4464000" cy="334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23972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87F0-03B5-48A4-AFB5-5C1A46816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9750-D659-4511-A2A7-5C816152C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97000" y="668160"/>
            <a:ext cx="4464000" cy="33483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23972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uld only use parts of 2 units of our 10 unit text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the McDougall Littell Integrated se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CE48-DE98-4FDD-B72C-CB48D6B14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97000" y="668160"/>
            <a:ext cx="4464000" cy="33483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23972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 3 is where we wanted “all” students to be by the end of the Unit.  Level 4 was written for students who wanted/needed to be challen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 1 &amp; 2 align with either middle school PE’s or necessary skills for Level 3.  With these particular learning targets, Level 2 was at grade level but low complexity.  However, an understanding of correlation would be necessary for students to write and interpret equations of linear models at Level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2D2E-6E42-46A0-ADDE-2E5F7B1BF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97000" y="668160"/>
            <a:ext cx="4464000" cy="3348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23972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ual Understanding – Embedded Multiple Representations and the connections between those repres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izing Memorization – Jo Boaler “Funnel &amp; Ladder”; Slope-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in Context – Unit Projects (Bicycle Race, Printer Costs, Painting Houses) mentio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ev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 Technology – Math Open Reference; Geogebra; Graphing Calculators; Powerpoints; Green Gl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 Lessons with Current References – Swine Flu, Blockbuster Movies (we will show you an example of this one l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89CB-C8B9-4B4A-80DB-80B4ACB3B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97000" y="668160"/>
            <a:ext cx="4464000" cy="3348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23972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use of icons and student reaction to ic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54E7-2326-43EC-B10E-2B3FD1DD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728D-F88D-46D2-ACE8-054F1B30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6664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E475-E2F7-423C-A1F9-FDEFEC00E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0484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5248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0484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5248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E4D9-BC13-443F-85E1-0113CE45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780C-8AAB-464C-97AD-C0AE671D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FC3D-AA85-4F4B-B545-6B202D41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215E-11FD-40B7-B7DF-F715422D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77B2-4038-48F9-876D-1DAEEC3D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A328-4FB6-4ECB-833B-59CD3046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CC1B-5663-4C8E-8807-67F7E0BC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6664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52F8-1D3D-4B62-BA8A-1B74204C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6A4B-C11C-403D-8E6A-A328F8B0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Evergreen Public Schools 4/15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EF22-096A-448F-A8A7-C61D66C17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chools.evergreenps.org/198910414181343180/lib/198910414181343180/_files/U5_Lesson_Plan.pdf" TargetMode="External"/><Relationship Id="rId3" Type="http://schemas.openxmlformats.org/officeDocument/2006/relationships/image" Target="../media/image5.wmf"/><Relationship Id="rId4" Type="http://schemas.openxmlformats.org/officeDocument/2006/relationships/hyperlink" Target="http://schools.evergreenps.org/198910414181343180/lib/198910414181343180/_files/U5_Lesson_Plan.pdf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chools.evergreenps.org/198910414181343180/lib/198910414181343180/_files/Hollywood_Budgets_A.ppt" TargetMode="External"/><Relationship Id="rId3" Type="http://schemas.openxmlformats.org/officeDocument/2006/relationships/image" Target="../media/image6.png"/><Relationship Id="rId4" Type="http://schemas.openxmlformats.org/officeDocument/2006/relationships/hyperlink" Target="http://schools.evergreenps.org/198910414181343180/lib/198910414181343180/_files/Hollywood_Budgets_A.pp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chools.evergreenps.org/198910414181343180/lib/198910414181343180/_files/Integrated_1_Can_I_Do_This.pdf" TargetMode="External"/><Relationship Id="rId3" Type="http://schemas.openxmlformats.org/officeDocument/2006/relationships/hyperlink" Target="http://schools.evergreenps.org/198910414181343180/lib/198910414181343180/_files/Int1_U5_Assmt_2009_Form_B.pdf" TargetMode="External"/><Relationship Id="rId4" Type="http://schemas.openxmlformats.org/officeDocument/2006/relationships/hyperlink" Target="http://schools.evergreenps.org/198910414181343180/lib/198910414181343180/_files/U_5_Learning_Targets_v2.pdf" TargetMode="External"/><Relationship Id="rId5" Type="http://schemas.openxmlformats.org/officeDocument/2006/relationships/image" Target="../media/image7.png"/><Relationship Id="rId6" Type="http://schemas.openxmlformats.org/officeDocument/2006/relationships/hyperlink" Target="http://schools.evergreenps.org/198910414181343180/lib/198910414181343180/_files/U_5_Learning_Targets_v2.pdf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teachertube.com/members/viewVideo.php?video_id=154923&amp;title=Mutliple_Reps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thwest Math Consort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by Math Coa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llaboration with classroom teach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vergreen 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Public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llaboration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dland Public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Washougal School Distr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EvergreenLogo2Color300dpiTransparentBG"/>
          <p:cNvPicPr/>
          <p:nvPr/>
        </p:nvPicPr>
        <p:blipFill>
          <a:blip r:embed="rId1"/>
          <a:stretch/>
        </p:blipFill>
        <p:spPr>
          <a:xfrm>
            <a:off x="609480" y="4495680"/>
            <a:ext cx="342900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Evergreen Public Schools 4/15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63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ining the SW Math Consort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EvergreenLogo2Color300dpiTransparentBG"/>
          <p:cNvPicPr/>
          <p:nvPr/>
        </p:nvPicPr>
        <p:blipFill>
          <a:blip r:embed="rId1"/>
          <a:stretch/>
        </p:blipFill>
        <p:spPr>
          <a:xfrm>
            <a:off x="7047000" y="5605560"/>
            <a:ext cx="2097000" cy="1252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80520" y="121932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 training on using                              curricular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e in school or                                  virtual PLC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ibute to th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on-going, dynamic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nk T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, design and revi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e in rich mathematical discu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MPj04394460000[1]"/>
          <p:cNvPicPr/>
          <p:nvPr/>
        </p:nvPicPr>
        <p:blipFill>
          <a:blip r:embed="rId2"/>
          <a:stretch/>
        </p:blipFill>
        <p:spPr>
          <a:xfrm>
            <a:off x="6019920" y="1143000"/>
            <a:ext cx="2344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Evergreen Public Schools 4/15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63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uld you like to see mo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EvergreenLogo2Color300dpiTransparentBG"/>
          <p:cNvPicPr/>
          <p:nvPr/>
        </p:nvPicPr>
        <p:blipFill>
          <a:blip r:embed="rId1"/>
          <a:stretch/>
        </p:blipFill>
        <p:spPr>
          <a:xfrm>
            <a:off x="7047000" y="5605560"/>
            <a:ext cx="2097000" cy="1252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380520" y="121932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 previewed is available for you to exam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 bit.ly/evergreen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j0254490"/>
          <p:cNvPicPr/>
          <p:nvPr/>
        </p:nvPicPr>
        <p:blipFill>
          <a:blip r:embed="rId2"/>
          <a:stretch/>
        </p:blipFill>
        <p:spPr>
          <a:xfrm>
            <a:off x="5562720" y="1905120"/>
            <a:ext cx="218916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Evergreen Public Schools 4/15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EvergreenLogo2Color300dpiTransparentBG"/>
          <p:cNvPicPr/>
          <p:nvPr/>
        </p:nvPicPr>
        <p:blipFill>
          <a:blip r:embed="rId1"/>
          <a:stretch/>
        </p:blipFill>
        <p:spPr>
          <a:xfrm>
            <a:off x="7047000" y="5605560"/>
            <a:ext cx="2097000" cy="1252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447920" y="1218960"/>
            <a:ext cx="63244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l.fabianek@evergreenps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da.phillips@evergreenps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ra.schneider@evergreenps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di.rhodes@evergreenps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.morris@evergreenps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j0288904"/>
          <p:cNvPicPr/>
          <p:nvPr/>
        </p:nvPicPr>
        <p:blipFill>
          <a:blip r:embed="rId2"/>
          <a:stretch/>
        </p:blipFill>
        <p:spPr>
          <a:xfrm>
            <a:off x="762120" y="3962520"/>
            <a:ext cx="236196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632448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we take this 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ork started when we compared our textbook to the “new” Performance Expec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alized that our textbook and resources did not align with the 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EvergreenLogo2Color300dpiTransparentBG"/>
          <p:cNvPicPr/>
          <p:nvPr/>
        </p:nvPicPr>
        <p:blipFill>
          <a:blip r:embed="rId1"/>
          <a:stretch/>
        </p:blipFill>
        <p:spPr>
          <a:xfrm>
            <a:off x="7047000" y="5605560"/>
            <a:ext cx="2097000" cy="125244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19"/>
          <p:cNvGrpSpPr/>
          <p:nvPr/>
        </p:nvGrpSpPr>
        <p:grpSpPr>
          <a:xfrm>
            <a:off x="1295280" y="3701880"/>
            <a:ext cx="4962600" cy="3156840"/>
            <a:chOff x="1295280" y="3701880"/>
            <a:chExt cx="4962600" cy="3156840"/>
          </a:xfrm>
        </p:grpSpPr>
        <p:pic>
          <p:nvPicPr>
            <p:cNvPr id="55" name="Picture 14" descr="MPj04285740000[1]"/>
            <p:cNvPicPr/>
            <p:nvPr/>
          </p:nvPicPr>
          <p:blipFill>
            <a:blip r:embed="rId2"/>
            <a:srcRect l="39821" t="42455" r="0" b="0"/>
            <a:stretch/>
          </p:blipFill>
          <p:spPr>
            <a:xfrm>
              <a:off x="1295280" y="3701880"/>
              <a:ext cx="4962600" cy="31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15"/>
            <p:cNvSpPr/>
            <p:nvPr/>
          </p:nvSpPr>
          <p:spPr>
            <a:xfrm>
              <a:off x="3962520" y="5911560"/>
              <a:ext cx="2286000" cy="947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ere we were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6"/>
            <p:cNvSpPr/>
            <p:nvPr/>
          </p:nvSpPr>
          <p:spPr>
            <a:xfrm>
              <a:off x="1295280" y="4235040"/>
              <a:ext cx="2362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ere we wanted to b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7"/>
            <p:cNvSpPr/>
            <p:nvPr/>
          </p:nvSpPr>
          <p:spPr>
            <a:xfrm>
              <a:off x="1752480" y="522576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8"/>
            <p:cNvSpPr/>
            <p:nvPr/>
          </p:nvSpPr>
          <p:spPr>
            <a:xfrm>
              <a:off x="5257800" y="4920840"/>
              <a:ext cx="228600" cy="838440"/>
            </a:xfrm>
            <a:prstGeom prst="upArrow">
              <a:avLst>
                <a:gd name="adj1" fmla="val 50000"/>
                <a:gd name="adj2" fmla="val 91693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Evergreen Public Schools 4/15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34280" cy="63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shington State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EvergreenLogo2Color300dpiTransparentBG"/>
          <p:cNvPicPr/>
          <p:nvPr/>
        </p:nvPicPr>
        <p:blipFill>
          <a:blip r:embed="rId1"/>
          <a:stretch/>
        </p:blipFill>
        <p:spPr>
          <a:xfrm>
            <a:off x="7047000" y="5605560"/>
            <a:ext cx="2097000" cy="1252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380880" y="990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grouped the standards into un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523880"/>
          <a:ext cx="6553080" cy="4572000"/>
        </p:xfrm>
        <a:graphic>
          <a:graphicData uri="http://schemas.openxmlformats.org/drawingml/2006/table">
            <a:tbl>
              <a:tblPr/>
              <a:tblGrid>
                <a:gridCol w="6553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1    One Vari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2    Solving Inequalities and Absolute 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3    Functions and Multiple Representation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4    Linear Function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5    Linear Models of Bivariate Dat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6    Parallel Lines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7    Solving in Two Variabl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8    Sequences &amp; Exponential Fun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9    Non-Linear Fun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1028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10  Univariate Dat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Evergreen Public Schools 4/15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705720" cy="63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 Tar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EvergreenLogo2Color300dpiTransparentBG"/>
          <p:cNvPicPr/>
          <p:nvPr/>
        </p:nvPicPr>
        <p:blipFill>
          <a:blip r:embed="rId1"/>
          <a:stretch/>
        </p:blipFill>
        <p:spPr>
          <a:xfrm>
            <a:off x="7047000" y="5605560"/>
            <a:ext cx="2097000" cy="1252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380880" y="990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rote “I Can” statements from the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0880" y="2133720"/>
          <a:ext cx="6629400" cy="3535200"/>
        </p:xfrm>
        <a:graphic>
          <a:graphicData uri="http://schemas.openxmlformats.org/drawingml/2006/table">
            <a:tbl>
              <a:tblPr/>
              <a:tblGrid>
                <a:gridCol w="803520"/>
                <a:gridCol w="58258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can decide whether or not a linear model is a good model for a set of dat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ca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aw a line that is a good model for the dat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rite the equation of that lin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the trend line or the equation to make prediction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pret the slope and y-intercept of a linear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can describe the correlation of a scatterplo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itive or neg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ong or we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can identify the independent and dependent variables of a data se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can construct a scatter plo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Evergreen Public Schools 4/15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6629400" cy="71604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Philosoph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EvergreenLogo2Color300dpiTransparentBG"/>
          <p:cNvPicPr/>
          <p:nvPr/>
        </p:nvPicPr>
        <p:blipFill>
          <a:blip r:embed="rId1"/>
          <a:stretch/>
        </p:blipFill>
        <p:spPr>
          <a:xfrm>
            <a:off x="7047000" y="5605560"/>
            <a:ext cx="2097000" cy="1252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80520" y="1371240"/>
            <a:ext cx="80773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eveloped lessons design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conceptual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problems in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dynamic lessons with current 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 the state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MCj04063720000[1]"/>
          <p:cNvPicPr/>
          <p:nvPr/>
        </p:nvPicPr>
        <p:blipFill>
          <a:blip r:embed="rId2"/>
          <a:stretch/>
        </p:blipFill>
        <p:spPr>
          <a:xfrm>
            <a:off x="6629400" y="1066680"/>
            <a:ext cx="20527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Evergreen Public Schools 4/15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629400" cy="63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EvergreenLogo2Color300dpiTransparentBG"/>
          <p:cNvPicPr/>
          <p:nvPr/>
        </p:nvPicPr>
        <p:blipFill>
          <a:blip r:embed="rId1"/>
          <a:stretch/>
        </p:blipFill>
        <p:spPr>
          <a:xfrm>
            <a:off x="7047000" y="5605560"/>
            <a:ext cx="2097000" cy="1252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7" descr="j019936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2590920"/>
            <a:ext cx="2427120" cy="28191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8"/>
          <p:cNvSpPr/>
          <p:nvPr/>
        </p:nvSpPr>
        <p:spPr>
          <a:xfrm>
            <a:off x="609480" y="1523880"/>
            <a:ext cx="57913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Plans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ive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9"/>
          <p:cNvSpPr/>
          <p:nvPr/>
        </p:nvSpPr>
        <p:spPr>
          <a:xfrm rot="20626200">
            <a:off x="5486400" y="37339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Evergreen Public Schools 4/15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63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llywood Bu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EvergreenLogo2Color300dpiTransparentBG"/>
          <p:cNvPicPr/>
          <p:nvPr/>
        </p:nvPicPr>
        <p:blipFill>
          <a:blip r:embed="rId1"/>
          <a:stretch/>
        </p:blipFill>
        <p:spPr>
          <a:xfrm>
            <a:off x="7047000" y="5605560"/>
            <a:ext cx="2097000" cy="1252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90920" y="1905120"/>
            <a:ext cx="3276360" cy="3276360"/>
          </a:xfrm>
          <a:prstGeom prst="rect">
            <a:avLst/>
          </a:prstGeom>
          <a:ln w="0">
            <a:noFill/>
          </a:ln>
        </p:spPr>
      </p:pic>
      <p:sp>
        <p:nvSpPr>
          <p:cNvPr id="85" name="WordArt 11"/>
          <p:cNvSpPr txBox="1"/>
          <p:nvPr/>
        </p:nvSpPr>
        <p:spPr>
          <a:xfrm rot="20761200">
            <a:off x="304920" y="1600200"/>
            <a:ext cx="37814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latin typeface="Arial Black"/>
              </a:rPr>
              <a:t>Sample Lesson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ff33"/>
              </a:solidFill>
              <a:latin typeface="Arial Black"/>
              <a:ea typeface="Arial Black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3276720" y="45720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Evergreen Public Schools 4/15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63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EvergreenLogo2Color300dpiTransparentBG"/>
          <p:cNvPicPr/>
          <p:nvPr/>
        </p:nvPicPr>
        <p:blipFill>
          <a:blip r:embed="rId1"/>
          <a:stretch/>
        </p:blipFill>
        <p:spPr>
          <a:xfrm>
            <a:off x="7047000" y="5605560"/>
            <a:ext cx="2097000" cy="1252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80520" y="1219320"/>
            <a:ext cx="723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esigned assessments by target a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 Black"/>
              </a:rPr>
              <a:t>Form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Benchmarks (Pretest)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Target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Concept Checks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an I Do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Ticket out the D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 Black"/>
              </a:rPr>
              <a:t>Summ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Gradebook Quiz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ni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29200" y="38862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 rot="19258200">
            <a:off x="6172920" y="457164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Evergreen Public Schools 4/15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274680"/>
            <a:ext cx="6705720" cy="170640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may be thinking…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What does it look like in a classroom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EvergreenLogo2Color300dpiTransparentBG"/>
          <p:cNvPicPr/>
          <p:nvPr/>
        </p:nvPicPr>
        <p:blipFill>
          <a:blip r:embed="rId1"/>
          <a:stretch/>
        </p:blipFill>
        <p:spPr>
          <a:xfrm>
            <a:off x="7047000" y="5605560"/>
            <a:ext cx="2097000" cy="1252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80520" y="1828440"/>
            <a:ext cx="723924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take a 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MCj04338650000[1]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81280" y="274320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0"/>
          <p:cNvSpPr/>
          <p:nvPr/>
        </p:nvSpPr>
        <p:spPr>
          <a:xfrm rot="1005000">
            <a:off x="4494960" y="4723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9:56:38Z</dcterms:created>
  <dc:creator>LocalSetup</dc:creator>
  <dc:description/>
  <dc:language>en-US</dc:language>
  <cp:lastModifiedBy>rileya</cp:lastModifiedBy>
  <dcterms:modified xsi:type="dcterms:W3CDTF">2010-09-07T22:53:33Z</dcterms:modified>
  <cp:revision>40</cp:revision>
  <dc:subject/>
  <dc:title>Integrated 1 Curriculum</dc:title>
</cp:coreProperties>
</file>