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DA34-7722-4B6C-A8A8-6C605FE1F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BBCC-3BFF-4F5C-94B8-D8A35DFE5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9D67-EDFD-48D7-A283-EDC32449E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F1DA-238E-45F4-92D7-906268586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3277-8514-4152-B2F3-D0A5DC244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9F2E0-C945-4875-BBD7-69AD00B3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6DC33-CBF4-43D3-B414-30BB483B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5BE3C-6F41-4CF2-B614-F816DB58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E577B-FF6C-4DCC-B617-FC6BD169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C35A8-12D2-49AF-9748-808240D4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E3FB-E0A6-4F3D-B6CC-333CD44E78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0AAF0-A268-4CA4-A28C-DC777C92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612CB-14AA-4DB9-B100-C82DD6B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89168-E33A-44AF-8B57-D8F4A2C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84485-9CF5-4516-A420-320E4A61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04CB7-55FB-4C95-A932-9EF80EC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F9FFC-6E17-4D72-AD39-2B03B185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30038-541E-468B-9981-832711D6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8BEA-D72E-4EF6-9B89-FB2962D96C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77BB-B780-436F-840A-734AEDF75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E76B-9510-40A2-A404-EE81356DE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0971-95A4-4619-B372-930994EEC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FA29-D94B-4F0B-9DC4-21612C865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C7A2-D50D-4CCB-806C-8366DE6C1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swwdc.org/index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wwdc.org/index.html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Southwest Washington Workforce Development Council (SWWDC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296040"/>
            <a:ext cx="222876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B472-FA43-4B77-93F4-314EC779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Southwest Washington Workforce Development Council (SWWDC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228600"/>
            <a:ext cx="222876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91320" y="914400"/>
            <a:ext cx="2952720" cy="4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857760" y="3005280"/>
            <a:ext cx="1428480" cy="847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857760" y="3005280"/>
            <a:ext cx="1428480" cy="847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21E0-C6D2-4296-A34C-45457EF1F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40" y="6462720"/>
          <a:ext cx="1298520" cy="31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0" y="6462720"/>
                    <a:ext cx="12985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-15228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2840" y="6462720"/>
          <a:ext cx="1298520" cy="31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0" y="6462720"/>
                    <a:ext cx="12985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-15228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1800" y="20574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pportunity Internship Program (OI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71800" y="4343040"/>
            <a:ext cx="6019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6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et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O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input on progra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y challenges a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uge district interest in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5782-A824-4E86-9702-4A7142BCE5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 hour internships to 100 sophomores, juniors, and seniors in SW Washington; with stip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and reduced lunch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, high tech, construction, transportation, logistics, health care; STEM related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rs receive a State Need Grant for first year of college in 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219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Incent students to pursue post-secondary training in demand industries and occupations through internships and grants for college tuition and f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008A-B871-41F3-A589-8301FEFAE8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gible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omores, juniors,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years of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y for free and reduced lun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pursuing career in targeted industry or occu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 to pursue post-secondary education in a relate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7242-3D8C-43C5-9F92-2517EE5308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e Need G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s for tuition and fees at Washington accredited post-secondary institutions, including apprenticeship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must complete the FAFSA to apply; SWWDC will submit OIP participan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are limited; early application critical to receiving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used within 12 months of high school grad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07BC-9EBA-490E-8C29-FC99C327A4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Adminis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Program Administration – SWW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cruitment – nConnect N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upport – SW Washington STEM C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Partner – School districts who want to participate and can facilitate WB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240" y="5181480"/>
            <a:ext cx="8030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MOU will outline specific 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5448-8782-44C7-B3C0-91C44540DF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ways to access 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Washington STEM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and reduced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health care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D 112-Youth Workfor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A e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internships that meet criteria and approved by SWW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-by-case basis; must enroll with STEM Coach for eligibility and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1FEC-AAA8-4D47-AA7B-731344B2EA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xt Steps (ASA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stricts who want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number of youth districts expect to be able to recruit (eligible, interested, commit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finalize M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student and employer recru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 student FAFSA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A06A-CF4F-48C6-968E-DC7F5B28634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44:17Z</dcterms:created>
  <dc:creator>Brandi Stewart-Wood</dc:creator>
  <dc:description/>
  <dc:language>en-US</dc:language>
  <cp:lastModifiedBy>Brandi Stewart-Wood</cp:lastModifiedBy>
  <dcterms:modified xsi:type="dcterms:W3CDTF">2009-12-16T15:49:29Z</dcterms:modified>
  <cp:revision>222</cp:revision>
  <dc:subject/>
  <dc:title>SW WA  Pipeline Stu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