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D10F-C33F-4123-89AA-D49BDF722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287A-648D-4E93-BD8A-BD50A2546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C1D82-269D-4C91-921A-27BA6412C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3935-C263-4203-82C5-74FD254E1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8629-28F6-486B-BEC3-29DBA9D2B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DD2E1-4BFA-4EC0-B3D5-E4C3B91E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47040-34DB-4249-8FF6-1AA5A206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AC13E-80AF-413B-88FC-66AF418B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BD68B-095A-4116-87E8-738DA69C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8CB45-CFF4-4448-B6BF-D77AAD6B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DFE7-E708-4A09-BDEB-F7C4BAD28A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CC326-5EF0-4171-AFAA-37EC4F2D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C0268-5EB3-4630-BC25-22F66AE2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5AF79-6030-4ACD-9A57-8F08BABB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D670D-953F-4AFC-AFEB-D504A1ED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21277-B6F2-4E09-AF01-08AE76C7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C5824-DDED-48E5-B613-42EDF92C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5DA7C-1230-4A54-A51E-1AB2786D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5995-EE4C-4D53-B54D-4EBB0B23EA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6F6A4-7591-4088-8810-E9287665B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9FA4-7C3B-4CDF-AAFB-EB481CCAB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02A0-5034-409F-B1B4-20BBE565F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375F-9357-45D2-AB86-818A16014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7811-FA79-4F47-9D74-1BA0B56AB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swwdc.org/index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wwdc.org/index.html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Southwest Washington Workforce Development Council (SWWDC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296040"/>
            <a:ext cx="2228760" cy="48564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98FE-0AA9-4EB8-94DF-AAE7BB4A5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Southwest Washington Workforce Development Council (SWWDC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228600"/>
            <a:ext cx="2228760" cy="48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91320" y="914400"/>
            <a:ext cx="2952720" cy="47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857760" y="3005280"/>
            <a:ext cx="1428480" cy="847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857760" y="3005280"/>
            <a:ext cx="1428480" cy="847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09D8-856E-47A0-9F64-009128733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2840" y="6462720"/>
          <a:ext cx="1298520" cy="31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0" y="6462720"/>
                    <a:ext cx="129852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-152280"/>
            <a:ext cx="9144000" cy="712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2840" y="6462720"/>
          <a:ext cx="1298520" cy="31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0" y="6462720"/>
                    <a:ext cx="129852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0" y="-152280"/>
            <a:ext cx="9144000" cy="712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71800" y="20574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pportunity Internship Program (OI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971800" y="4343040"/>
            <a:ext cx="6019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ember 16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et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O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input on progra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y challenges an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uge district interest in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E5D3-C1AD-4E5E-8EAC-0F6B7DED65A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 hour internships to 100 sophomores, juniors, and seniors in SW Washington; with stip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and reduced lunch eli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ing, high tech, construction, transportation, logistics, health care; STEM related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rs receive a State Need Grant for first year of college in 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12193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oal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Incent students to pursue post-secondary training in demand industries and occupations through internships and grants for college tuition and f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E39E-41C9-41A3-95D5-DC09F2CFA46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igible stu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phomores, juniors, sen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 years of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fy for free and reduced lun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ed in pursuing career in targeted industry or occu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ment to pursue post-secondary education in a related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41F18-5603-4379-97F6-0C94F8CE1CE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e Need Gr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s for tuition and fees at Washington accredited post-secondary institutions, including apprenticeship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must complete the FAFSA to apply; SWWDC will submit OIP participan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s are limited; early application critical to receiving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used within 12 months of high school grad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796A-5C78-46CA-96F9-D0C4496F219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 Adminis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Program Administration – SWW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recruitment – nConnect N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support – SW Washington STEM C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Partner – School districts who want to participate and can facilitate WB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8240" y="5181480"/>
            <a:ext cx="8030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 MOU will outline specific role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692D-8E4D-43FD-BDEC-E392B443FB1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ways to access O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 Washington STEM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and reduced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health care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D 112-Youth Workforc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A e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internships that meet criteria and approved by SWW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-by-case basis; must enroll with STEM Coach for eligibility and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190B-6901-4264-A6A3-098F16F440A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xt Steps (ASA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districts who want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number of youth districts expect to be able to recruit (eligible, interested, commit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and finalize M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student and employer recru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e student FAFSA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F0B7-7CD4-4071-AFE3-682368C75E8D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8:44:17Z</dcterms:created>
  <dc:creator>Brandi Stewart-Wood</dc:creator>
  <dc:description/>
  <dc:language>en-US</dc:language>
  <cp:lastModifiedBy>Brandi Stewart-Wood</cp:lastModifiedBy>
  <dcterms:modified xsi:type="dcterms:W3CDTF">2009-12-16T15:49:29Z</dcterms:modified>
  <cp:revision>222</cp:revision>
  <dc:subject/>
  <dc:title>SW WA  Pipeline Stu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